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E7F7-44BF-41C4-931A-1F34B0B6F03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B562-16CD-40B9-85BC-DBF86CEC613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B213-3026-450B-ACEC-280E4ED9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6D0C-9B6A-4A1C-A395-85337D63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8FB5-CB2E-47C4-8C1B-184B5C96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FBA-1F44-4F85-B4A2-F62C6EFF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57F4-8CD5-46C9-9BC9-2E7C5464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7C00-88F8-4712-B1AC-2872AC5C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B6B1-650C-4F40-9456-0302C477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2C46-23BF-41F9-9C49-150C413A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B621-F523-48F7-87C4-EAB8FCE7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69DE-A3AE-4D3F-930D-C4033F38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A33D-4895-4EE4-B8B7-4442FC71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6620-30E7-414C-BD97-06A4C273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B9E3-B33A-4AD3-817D-41976EDA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30F6-5FFA-49FC-9961-0F0F54C7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A108-8116-4DFD-8741-0B26F935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3492-7A41-4CF5-BB8E-F72D3026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5C81-3B69-4016-BDE6-080B4235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865A-A84A-40F9-8986-9C750F20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54DB-F69E-4074-B26C-914B6EC7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3304-6D81-4E49-9377-F56F09E0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E788-852B-4528-A492-B8EFC16A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B7A2-E632-441F-97FE-8342E1CF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2BD1-971C-4194-BD4D-76235DF8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26B2-DAAF-4E42-88AB-5195DC9F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5285-6CE9-4A69-BC23-9BF3C187CA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9E75-F3EB-44DE-9F64-3842248FE7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5" descr="timg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711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上二年级了你们还会天天粘着爸爸妈妈。到处找妈妈吗？今天啊，有个小朋友到处找妈妈呢？它就是？说说你是怎么认识它的？小蝌蚪长什么样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能在课文中找到答案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95640" y="1412640"/>
            <a:ext cx="303516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蝌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矩形 6" descr=""/>
          <p:cNvPicPr/>
          <p:nvPr/>
        </p:nvPicPr>
        <p:blipFill>
          <a:blip r:embed="rId2"/>
          <a:stretch/>
        </p:blipFill>
        <p:spPr>
          <a:xfrm>
            <a:off x="4248000" y="1023840"/>
            <a:ext cx="2281320" cy="2871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5" descr="timg.jpg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711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今天小蝌蚪来棠外可不是上学的，它是来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26920" y="1412640"/>
            <a:ext cx="3035520" cy="132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小蝌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内容占位符 4"/>
          <p:cNvSpPr/>
          <p:nvPr/>
        </p:nvSpPr>
        <p:spPr>
          <a:xfrm>
            <a:off x="4211640" y="1413000"/>
            <a:ext cx="303516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找妈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生字检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桌合作相互认字，做得好的给他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五角星 3"/>
          <p:cNvSpPr/>
          <p:nvPr/>
        </p:nvSpPr>
        <p:spPr>
          <a:xfrm>
            <a:off x="7667640" y="1628640"/>
            <a:ext cx="433440" cy="576360"/>
          </a:xfrm>
          <a:custGeom>
            <a:avLst/>
            <a:gdLst>
              <a:gd name="textAreaLeft" fmla="*/ 133920 w 433440"/>
              <a:gd name="textAreaRight" fmla="*/ 299520 w 43344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432048" h="576064">
                <a:moveTo>
                  <a:pt x="0" y="220036"/>
                </a:moveTo>
                <a:lnTo>
                  <a:pt x="165029" y="220038"/>
                </a:lnTo>
                <a:lnTo>
                  <a:pt x="216024" y="0"/>
                </a:lnTo>
                <a:lnTo>
                  <a:pt x="267019" y="220038"/>
                </a:lnTo>
                <a:lnTo>
                  <a:pt x="432048" y="220036"/>
                </a:lnTo>
                <a:lnTo>
                  <a:pt x="298536" y="356025"/>
                </a:lnTo>
                <a:lnTo>
                  <a:pt x="349534" y="576062"/>
                </a:lnTo>
                <a:lnTo>
                  <a:pt x="216024" y="440071"/>
                </a:lnTo>
                <a:lnTo>
                  <a:pt x="82514" y="576062"/>
                </a:lnTo>
                <a:lnTo>
                  <a:pt x="133512" y="356025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内容占位符 2"/>
          <p:cNvSpPr/>
          <p:nvPr/>
        </p:nvSpPr>
        <p:spPr>
          <a:xfrm>
            <a:off x="468360" y="227664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椭圆 7"/>
          <p:cNvSpPr/>
          <p:nvPr/>
        </p:nvSpPr>
        <p:spPr>
          <a:xfrm>
            <a:off x="4859280" y="2637000"/>
            <a:ext cx="720720" cy="2016000"/>
          </a:xfrm>
          <a:prstGeom prst="ellipse">
            <a:avLst/>
          </a:prstGeom>
          <a:solidFill>
            <a:srgbClr val="ffffff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"/>
          <p:cNvSpPr/>
          <p:nvPr/>
        </p:nvSpPr>
        <p:spPr>
          <a:xfrm>
            <a:off x="115920" y="412920"/>
            <a:ext cx="531000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想一想：青蛙长什么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"/>
          <p:cNvSpPr/>
          <p:nvPr/>
        </p:nvSpPr>
        <p:spPr>
          <a:xfrm>
            <a:off x="4859280" y="1436760"/>
            <a:ext cx="4178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四条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宽嘴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披着碧绿的衣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露着雪白的肚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鼓着一对大眼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pic_252916"/>
          <p:cNvPicPr/>
          <p:nvPr/>
        </p:nvPicPr>
        <p:blipFill>
          <a:blip r:embed="rId1"/>
          <a:stretch/>
        </p:blipFill>
        <p:spPr>
          <a:xfrm>
            <a:off x="358920" y="1268280"/>
            <a:ext cx="4348080" cy="5218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文本框 3"/>
          <p:cNvSpPr/>
          <p:nvPr/>
        </p:nvSpPr>
        <p:spPr>
          <a:xfrm>
            <a:off x="357120" y="442800"/>
            <a:ext cx="195444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4"/>
          <p:cNvSpPr/>
          <p:nvPr/>
        </p:nvSpPr>
        <p:spPr>
          <a:xfrm>
            <a:off x="588960" y="2093760"/>
            <a:ext cx="893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游哇游，过了几天，长出了两条后腿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游哇游，过了几天，长出了两条前腿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游哇游，过了几天，尾巴变短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3"/>
          <p:cNvSpPr/>
          <p:nvPr/>
        </p:nvSpPr>
        <p:spPr>
          <a:xfrm>
            <a:off x="888840" y="520560"/>
            <a:ext cx="182736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4"/>
          <p:cNvSpPr/>
          <p:nvPr/>
        </p:nvSpPr>
        <p:spPr>
          <a:xfrm>
            <a:off x="544680" y="1857240"/>
            <a:ext cx="8935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游哇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过了几天，长出了两条后腿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游哇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过了几天，长出了两条前腿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蝌蚪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游哇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过了几天，尾巴变短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3"/>
          <p:cNvSpPr/>
          <p:nvPr/>
        </p:nvSpPr>
        <p:spPr>
          <a:xfrm>
            <a:off x="561960" y="193680"/>
            <a:ext cx="182736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613400" y="1095480"/>
            <a:ext cx="446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他们看见鲤鱼妈妈在教小鲤鱼捕食，就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上去，问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鲤鱼阿姨，我们的妈妈在哪里？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鲤鱼妈妈说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009999"/>
                </a:solidFill>
                <a:latin typeface="楷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你们的妈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四条腿，宽嘴巴。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你们到那边去找吧！</a:t>
            </a:r>
            <a:r>
              <a:rPr b="1" lang="zh-CN" sz="3600" spc="-1" strike="noStrike">
                <a:solidFill>
                  <a:srgbClr val="009999"/>
                </a:solidFill>
                <a:latin typeface="楷体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pic_252914"/>
          <p:cNvPicPr/>
          <p:nvPr/>
        </p:nvPicPr>
        <p:blipFill>
          <a:blip r:embed="rId1"/>
          <a:stretch/>
        </p:blipFill>
        <p:spPr>
          <a:xfrm>
            <a:off x="216000" y="952560"/>
            <a:ext cx="4255920" cy="5632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文本框 3"/>
          <p:cNvSpPr/>
          <p:nvPr/>
        </p:nvSpPr>
        <p:spPr>
          <a:xfrm>
            <a:off x="542880" y="366840"/>
            <a:ext cx="171468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4"/>
          <p:cNvSpPr/>
          <p:nvPr/>
        </p:nvSpPr>
        <p:spPr>
          <a:xfrm>
            <a:off x="279360" y="1143000"/>
            <a:ext cx="85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仔细看一看，小蝌蚪有什么不一样？再读读课文，按顺序排一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5" descr="QQ截图20170807221119"/>
          <p:cNvPicPr/>
          <p:nvPr/>
        </p:nvPicPr>
        <p:blipFill>
          <a:blip r:embed="rId1"/>
          <a:stretch/>
        </p:blipFill>
        <p:spPr>
          <a:xfrm>
            <a:off x="1460520" y="2343240"/>
            <a:ext cx="6461280" cy="30574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pic_252913"/>
          <p:cNvPicPr/>
          <p:nvPr/>
        </p:nvPicPr>
        <p:blipFill>
          <a:blip r:embed="rId1"/>
          <a:stretch/>
        </p:blipFill>
        <p:spPr>
          <a:xfrm>
            <a:off x="12600" y="21556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pic_252914"/>
          <p:cNvPicPr/>
          <p:nvPr/>
        </p:nvPicPr>
        <p:blipFill>
          <a:blip r:embed="rId2">
            <a:lum bright="14000"/>
          </a:blip>
          <a:stretch/>
        </p:blipFill>
        <p:spPr>
          <a:xfrm>
            <a:off x="1841400" y="3624120"/>
            <a:ext cx="1789200" cy="1751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ic_252915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3594240" y="2436840"/>
            <a:ext cx="1815840" cy="1828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pic_252916"/>
          <p:cNvPicPr/>
          <p:nvPr/>
        </p:nvPicPr>
        <p:blipFill>
          <a:blip r:embed="rId4"/>
          <a:stretch/>
        </p:blipFill>
        <p:spPr>
          <a:xfrm>
            <a:off x="5410080" y="3657600"/>
            <a:ext cx="1828800" cy="1717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pic_252918"/>
          <p:cNvPicPr/>
          <p:nvPr/>
        </p:nvPicPr>
        <p:blipFill>
          <a:blip r:embed="rId5"/>
          <a:stretch/>
        </p:blipFill>
        <p:spPr>
          <a:xfrm>
            <a:off x="7238880" y="281952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3"/>
          <p:cNvSpPr/>
          <p:nvPr/>
        </p:nvSpPr>
        <p:spPr>
          <a:xfrm>
            <a:off x="209520" y="133200"/>
            <a:ext cx="171468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4"/>
          <p:cNvSpPr/>
          <p:nvPr/>
        </p:nvSpPr>
        <p:spPr>
          <a:xfrm>
            <a:off x="209520" y="861840"/>
            <a:ext cx="858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仔细看一看，小蝌蚪有什么不一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读读课文，按顺序排一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"/>
          <p:cNvSpPr/>
          <p:nvPr/>
        </p:nvSpPr>
        <p:spPr>
          <a:xfrm>
            <a:off x="4719600" y="5638680"/>
            <a:ext cx="79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备注：与上一页一样，但是图片我改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选择一些留哪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六角星 4"/>
          <p:cNvSpPr/>
          <p:nvPr/>
        </p:nvSpPr>
        <p:spPr>
          <a:xfrm>
            <a:off x="1305000" y="5375160"/>
            <a:ext cx="1079280" cy="1086120"/>
          </a:xfrm>
          <a:custGeom>
            <a:avLst/>
            <a:gdLst>
              <a:gd name="textAreaLeft" fmla="*/ 179640 w 1079280"/>
              <a:gd name="textAreaRight" fmla="*/ 899640 w 1079280"/>
              <a:gd name="textAreaTop" fmla="*/ 271440 h 1086120"/>
              <a:gd name="textAreaBottom" fmla="*/ 814680 h 1086120"/>
            </a:gdLst>
            <a:ahLst/>
            <a:rect l="textAreaLeft" t="textAreaTop" r="textAreaRight" b="textAreaBottom"/>
            <a:pathLst>
              <a:path w="1079500" h="1085850">
                <a:moveTo>
                  <a:pt x="0" y="271463"/>
                </a:moveTo>
                <a:lnTo>
                  <a:pt x="359830" y="271458"/>
                </a:lnTo>
                <a:lnTo>
                  <a:pt x="539750" y="0"/>
                </a:lnTo>
                <a:lnTo>
                  <a:pt x="719670" y="271458"/>
                </a:lnTo>
                <a:lnTo>
                  <a:pt x="1079500" y="271463"/>
                </a:lnTo>
                <a:lnTo>
                  <a:pt x="899589" y="542925"/>
                </a:lnTo>
                <a:lnTo>
                  <a:pt x="1079500" y="814388"/>
                </a:lnTo>
                <a:lnTo>
                  <a:pt x="719670" y="814392"/>
                </a:lnTo>
                <a:lnTo>
                  <a:pt x="539750" y="1085850"/>
                </a:lnTo>
                <a:lnTo>
                  <a:pt x="359830" y="814392"/>
                </a:lnTo>
                <a:lnTo>
                  <a:pt x="0" y="814388"/>
                </a:lnTo>
                <a:lnTo>
                  <a:pt x="179911" y="542925"/>
                </a:lnTo>
                <a:close/>
              </a:path>
            </a:pathLst>
          </a:cu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3"/>
          <p:cNvSpPr/>
          <p:nvPr/>
        </p:nvSpPr>
        <p:spPr>
          <a:xfrm>
            <a:off x="662040" y="487440"/>
            <a:ext cx="172548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4"/>
          <p:cNvSpPr/>
          <p:nvPr/>
        </p:nvSpPr>
        <p:spPr>
          <a:xfrm>
            <a:off x="4111560" y="1127160"/>
            <a:ext cx="79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照样子，说一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5" descr="QQ截图20170807221523"/>
          <p:cNvPicPr/>
          <p:nvPr/>
        </p:nvPicPr>
        <p:blipFill>
          <a:blip r:embed="rId1"/>
          <a:stretch/>
        </p:blipFill>
        <p:spPr>
          <a:xfrm>
            <a:off x="593640" y="1211400"/>
            <a:ext cx="3090960" cy="4751280"/>
          </a:xfrm>
          <a:prstGeom prst="rect">
            <a:avLst/>
          </a:prstGeom>
          <a:ln w="0">
            <a:noFill/>
          </a:ln>
        </p:spPr>
      </p:pic>
      <p:sp>
        <p:nvSpPr>
          <p:cNvPr id="167" name="文本框 6"/>
          <p:cNvSpPr/>
          <p:nvPr/>
        </p:nvSpPr>
        <p:spPr>
          <a:xfrm>
            <a:off x="3997440" y="2619360"/>
            <a:ext cx="406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他戴着（       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穿着（      ）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…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3"/>
          <p:cNvSpPr/>
          <p:nvPr/>
        </p:nvSpPr>
        <p:spPr>
          <a:xfrm>
            <a:off x="847800" y="279360"/>
            <a:ext cx="167004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5" descr="QQ截图20170807222130"/>
          <p:cNvPicPr/>
          <p:nvPr/>
        </p:nvPicPr>
        <p:blipFill>
          <a:blip r:embed="rId1"/>
          <a:stretch/>
        </p:blipFill>
        <p:spPr>
          <a:xfrm>
            <a:off x="455760" y="3059280"/>
            <a:ext cx="895320" cy="13968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6" descr="QQ截图20170807222204"/>
          <p:cNvPicPr/>
          <p:nvPr/>
        </p:nvPicPr>
        <p:blipFill>
          <a:blip r:embed="rId2"/>
          <a:stretch/>
        </p:blipFill>
        <p:spPr>
          <a:xfrm>
            <a:off x="7826400" y="3278160"/>
            <a:ext cx="806400" cy="959040"/>
          </a:xfrm>
          <a:prstGeom prst="rect">
            <a:avLst/>
          </a:prstGeom>
          <a:ln w="0">
            <a:noFill/>
          </a:ln>
        </p:spPr>
      </p:pic>
      <p:sp>
        <p:nvSpPr>
          <p:cNvPr id="171" name="云形标注 7"/>
          <p:cNvSpPr/>
          <p:nvPr/>
        </p:nvSpPr>
        <p:spPr>
          <a:xfrm>
            <a:off x="-14400" y="1039680"/>
            <a:ext cx="244656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左右结构左窄右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云形标注 8"/>
          <p:cNvSpPr/>
          <p:nvPr/>
        </p:nvSpPr>
        <p:spPr>
          <a:xfrm>
            <a:off x="6576840" y="577800"/>
            <a:ext cx="2621160" cy="2525760"/>
          </a:xfrm>
          <a:prstGeom prst="cloudCallout">
            <a:avLst>
              <a:gd name="adj1" fmla="val -1495"/>
              <a:gd name="adj2" fmla="val 80569"/>
            </a:avLst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主动避让有礼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巧妙穿插很友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7" descr="C:\Users\Administrator\AppData\Roaming\Tencent\Users\272041023\QQ\WinTemp\RichOle\P5T5{WE_UXB6XNW5LWZ$D58.png"/>
          <p:cNvPicPr/>
          <p:nvPr/>
        </p:nvPicPr>
        <p:blipFill>
          <a:blip r:embed="rId3"/>
          <a:stretch/>
        </p:blipFill>
        <p:spPr>
          <a:xfrm>
            <a:off x="1965240" y="2565360"/>
            <a:ext cx="5054760" cy="3024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读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快速找一找，文中哪里描写小蝌蚪的样子用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~~~~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勾一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28677"/>
          <p:cNvSpPr/>
          <p:nvPr/>
        </p:nvSpPr>
        <p:spPr>
          <a:xfrm>
            <a:off x="646200" y="1052640"/>
            <a:ext cx="79963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全国小学语文名师工作室联盟薛法根工作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范建健     开  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017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椭圆 4"/>
          <p:cNvSpPr/>
          <p:nvPr/>
        </p:nvSpPr>
        <p:spPr>
          <a:xfrm>
            <a:off x="6588000" y="1844640"/>
            <a:ext cx="476280" cy="72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"/>
          <p:cNvSpPr/>
          <p:nvPr/>
        </p:nvSpPr>
        <p:spPr>
          <a:xfrm>
            <a:off x="28440" y="247680"/>
            <a:ext cx="576576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想一想：小蝌蚪长什么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"/>
          <p:cNvSpPr/>
          <p:nvPr/>
        </p:nvSpPr>
        <p:spPr>
          <a:xfrm>
            <a:off x="5402160" y="1700280"/>
            <a:ext cx="374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大大的脑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"/>
          <p:cNvSpPr/>
          <p:nvPr/>
        </p:nvSpPr>
        <p:spPr>
          <a:xfrm>
            <a:off x="5402160" y="2708280"/>
            <a:ext cx="374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黑灰色的身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3"/>
          <p:cNvSpPr/>
          <p:nvPr/>
        </p:nvSpPr>
        <p:spPr>
          <a:xfrm>
            <a:off x="5402160" y="2997360"/>
            <a:ext cx="374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长长的尾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8" descr="timg (1).jpg"/>
          <p:cNvPicPr/>
          <p:nvPr/>
        </p:nvPicPr>
        <p:blipFill>
          <a:blip r:embed="rId1"/>
          <a:srcRect l="45365" t="34026" r="0" b="0"/>
          <a:stretch/>
        </p:blipFill>
        <p:spPr>
          <a:xfrm>
            <a:off x="1187280" y="1268280"/>
            <a:ext cx="3529080" cy="42609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椭圆 4"/>
          <p:cNvSpPr/>
          <p:nvPr/>
        </p:nvSpPr>
        <p:spPr>
          <a:xfrm>
            <a:off x="6084720" y="1052640"/>
            <a:ext cx="476280" cy="72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2"/>
          <p:cNvSpPr/>
          <p:nvPr/>
        </p:nvSpPr>
        <p:spPr>
          <a:xfrm>
            <a:off x="28440" y="247680"/>
            <a:ext cx="7064640" cy="642600"/>
          </a:xfrm>
          <a:prstGeom prst="rect">
            <a:avLst/>
          </a:prstGeom>
          <a:gradFill rotWithShape="0">
            <a:gsLst>
              <a:gs pos="0">
                <a:srgbClr val="fbfb11"/>
              </a:gs>
              <a:gs pos="100000">
                <a:srgbClr val="8383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2ce2"/>
                </a:solidFill>
                <a:latin typeface="Arial"/>
              </a:rPr>
              <a:t>想一想：小蝌蚪的脑袋怎么样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3"/>
          <p:cNvSpPr/>
          <p:nvPr/>
        </p:nvSpPr>
        <p:spPr>
          <a:xfrm>
            <a:off x="4932360" y="907920"/>
            <a:ext cx="33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大大的脑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3"/>
          <p:cNvSpPr/>
          <p:nvPr/>
        </p:nvSpPr>
        <p:spPr>
          <a:xfrm>
            <a:off x="4932360" y="1773360"/>
            <a:ext cx="50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小蝌蚪的脑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袋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"/>
          <p:cNvSpPr/>
          <p:nvPr/>
        </p:nvSpPr>
        <p:spPr>
          <a:xfrm>
            <a:off x="5076720" y="2565360"/>
            <a:ext cx="374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大大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"/>
          <p:cNvSpPr/>
          <p:nvPr/>
        </p:nvSpPr>
        <p:spPr>
          <a:xfrm>
            <a:off x="4572000" y="3429000"/>
            <a:ext cx="482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蝌蚪有着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的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"/>
          <p:cNvSpPr/>
          <p:nvPr/>
        </p:nvSpPr>
        <p:spPr>
          <a:xfrm>
            <a:off x="4284720" y="436572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蝌蚪有着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的尾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3"/>
          <p:cNvSpPr/>
          <p:nvPr/>
        </p:nvSpPr>
        <p:spPr>
          <a:xfrm>
            <a:off x="4284720" y="515772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小蝌蚪的身体</a:t>
            </a:r>
            <a:r>
              <a:rPr b="1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___</a:t>
            </a: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2987640" y="2708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运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11" descr="timg (1).jpg"/>
          <p:cNvPicPr/>
          <p:nvPr/>
        </p:nvPicPr>
        <p:blipFill>
          <a:blip r:embed="rId1"/>
          <a:srcRect l="45365" t="34026" r="0" b="0"/>
          <a:stretch/>
        </p:blipFill>
        <p:spPr>
          <a:xfrm>
            <a:off x="395280" y="1197000"/>
            <a:ext cx="3529080" cy="42609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文中只有一只小蝌蚪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一群小蝌蚪生活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5a5f940f3e04c9973bc7639e"/>
          <p:cNvPicPr/>
          <p:nvPr/>
        </p:nvPicPr>
        <p:blipFill>
          <a:blip r:embed="rId1"/>
          <a:stretch/>
        </p:blipFill>
        <p:spPr>
          <a:xfrm>
            <a:off x="0" y="1197000"/>
            <a:ext cx="4238640" cy="5661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4427640" y="2492280"/>
            <a:ext cx="36734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华文楷体"/>
                <a:ea typeface="华文楷体"/>
              </a:rPr>
              <a:t>池</a:t>
            </a:r>
            <a:r>
              <a:rPr b="1" lang="zh-CN" sz="1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塘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池塘里面有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pSp>
        <p:nvGrpSpPr>
          <p:cNvPr id="116" name="组合 5"/>
          <p:cNvGrpSpPr/>
          <p:nvPr/>
        </p:nvGrpSpPr>
        <p:grpSpPr>
          <a:xfrm>
            <a:off x="826920" y="2781360"/>
            <a:ext cx="1513080" cy="1368360"/>
            <a:chOff x="826920" y="2781360"/>
            <a:chExt cx="1513080" cy="1368360"/>
          </a:xfrm>
        </p:grpSpPr>
        <p:sp>
          <p:nvSpPr>
            <p:cNvPr id="117" name="椭圆 3"/>
            <p:cNvSpPr/>
            <p:nvPr/>
          </p:nvSpPr>
          <p:spPr>
            <a:xfrm>
              <a:off x="826920" y="2781360"/>
              <a:ext cx="1513080" cy="136836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4"/>
            <p:cNvSpPr/>
            <p:nvPr/>
          </p:nvSpPr>
          <p:spPr>
            <a:xfrm>
              <a:off x="1042920" y="2997360"/>
              <a:ext cx="1153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塘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线形标注 1 7"/>
          <p:cNvSpPr/>
          <p:nvPr/>
        </p:nvSpPr>
        <p:spPr>
          <a:xfrm>
            <a:off x="3708360" y="3141720"/>
            <a:ext cx="1871640" cy="934920"/>
          </a:xfrm>
          <a:prstGeom prst="borderCallout1">
            <a:avLst>
              <a:gd name="adj1" fmla="val 18750"/>
              <a:gd name="adj2" fmla="val -8333"/>
              <a:gd name="adj3" fmla="val 40523"/>
              <a:gd name="adj4" fmla="val -83745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池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线形标注 1 8"/>
          <p:cNvSpPr/>
          <p:nvPr/>
        </p:nvSpPr>
        <p:spPr>
          <a:xfrm>
            <a:off x="6372360" y="2060640"/>
            <a:ext cx="1944720" cy="863640"/>
          </a:xfrm>
          <a:prstGeom prst="borderCallout1">
            <a:avLst>
              <a:gd name="adj1" fmla="val 18750"/>
              <a:gd name="adj2" fmla="val -8333"/>
              <a:gd name="adj3" fmla="val 132921"/>
              <a:gd name="adj4" fmla="val -43282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线形标注 1 9"/>
          <p:cNvSpPr/>
          <p:nvPr/>
        </p:nvSpPr>
        <p:spPr>
          <a:xfrm>
            <a:off x="6372360" y="3068640"/>
            <a:ext cx="1944720" cy="865080"/>
          </a:xfrm>
          <a:prstGeom prst="borderCallout1">
            <a:avLst>
              <a:gd name="adj1" fmla="val 18750"/>
              <a:gd name="adj2" fmla="val -8333"/>
              <a:gd name="adj3" fmla="val 51236"/>
              <a:gd name="adj4" fmla="val -49884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线形标注 1 10"/>
          <p:cNvSpPr/>
          <p:nvPr/>
        </p:nvSpPr>
        <p:spPr>
          <a:xfrm>
            <a:off x="6443640" y="4292640"/>
            <a:ext cx="1944720" cy="865080"/>
          </a:xfrm>
          <a:prstGeom prst="borderCallout1">
            <a:avLst>
              <a:gd name="adj1" fmla="val 18750"/>
              <a:gd name="adj2" fmla="val -8333"/>
              <a:gd name="adj3" fmla="val -28597"/>
              <a:gd name="adj4" fmla="val -45759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6588000" y="314172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2"/>
          <p:cNvSpPr/>
          <p:nvPr/>
        </p:nvSpPr>
        <p:spPr>
          <a:xfrm>
            <a:off x="6588000" y="436572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一比那句好？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读出快活地语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5280" y="3573360"/>
            <a:ext cx="8229600" cy="15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池塘里有一群小蝌蚪，大大的脑袋，黑灰色的身子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甩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长长的尾巴，快活地游来游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内容占位符 2"/>
          <p:cNvSpPr/>
          <p:nvPr/>
        </p:nvSpPr>
        <p:spPr>
          <a:xfrm>
            <a:off x="395280" y="1916280"/>
            <a:ext cx="822960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池塘里有一群小蝌蚪，大大的脑袋，黑灰色的身子，长长的尾巴，快活地游来游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换个顺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67280" y="476280"/>
            <a:ext cx="417672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读出快活地语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859280" y="1628280"/>
            <a:ext cx="428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池塘里有一群小蝌蚪大大的脑袋，黑灰色的身子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甩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长长的尾巴，快活地游来游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5a5f940f3e04c9973bc7639e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7T14:28:44Z</dcterms:created>
  <dc:creator>lykj</dc:creator>
  <dc:description/>
  <cp:keywords/>
  <dc:language>en-US</dc:language>
  <cp:lastModifiedBy>ASUS</cp:lastModifiedBy>
  <dcterms:modified xsi:type="dcterms:W3CDTF">2018-09-03T08:10:46Z</dcterms:modified>
  <cp:revision>19</cp:revision>
  <dc:subject/>
  <dc:title>统编教材二年级上册第一单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